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D90-B307-4F42-864D-95AEF6C1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BA1D-D42F-4C04-B6A2-415CD770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E9B6-67BB-49BB-9427-DE40AFBB0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9824-263C-4AAE-A023-1BE8B18FC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224E-C1B5-460E-AE7A-67287A581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525DC-7EA1-4570-A338-DF1653DA2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348A-5F63-4ACC-AFF4-88B7F18F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AB16-D4E5-4F2B-B49C-4AC77423A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55DD-3D9A-4964-B849-502FDE741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D7A7-29ED-413A-A98A-58721378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119C-CB1B-4F0B-85C9-7A6D3CA3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0051-7D55-4C08-B4F9-E5E79FD5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E2D5-2690-4C32-8686-1EA6961D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E8870-7782-4800-901A-3E4149AF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C3850-3586-44AA-AC76-97A951FD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F0FC-E591-46AF-9F7D-08EA84D00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5F6B-B381-45D3-9427-CF1D91BC0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18F8-4AD9-420C-B37A-95BA5521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E92-1964-4299-80FA-A7007FF5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19E6-6816-47CB-A5E1-D5B633C4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AC2D-F4FB-4E5F-BAC2-EAAC24FA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3C67-D6DD-4DCC-AAB1-5F8D8466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10A-5C58-4078-A3B2-8EAA5FAE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2959-E941-4C8F-AEAC-C81F46FF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BB4B-3C33-402B-B436-A44F6B308FC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F3A98-13D6-4FA0-AAE4-4B8F5770A8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Wave Basic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ience 2008-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: Julia Fau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lectromagnetic Radiation Wav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se come from the sun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Radio 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Microwav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Infrared (Heat wav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Visible Ligh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UV Ray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X-Ray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Gamma Ray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724280" y="3809880"/>
            <a:ext cx="3505320" cy="26290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666600" y="6477120"/>
            <a:ext cx="495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xscience.edu/ourpages/users/Villani/bionic/2000/Pics/x%20ray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und Wa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not travel in spac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in amplitude=volu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hange in Wavelength=pitc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2895480" y="3581280"/>
            <a:ext cx="3705480" cy="2779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799080" y="6400800"/>
            <a:ext cx="473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brobproductions.com/bigstockphoto_Sound_Waves_1345039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wo Types of Wav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nsverse Wa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-These waves go side to sid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GHT!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ngitudinal Wav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--These waves push and pul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UND!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3429000" cy="225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00160" y="6172200"/>
            <a:ext cx="3990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dkimages.com/discover/previews/857/35069553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4952880" y="4191120"/>
            <a:ext cx="3276720" cy="15253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56320" y="6172200"/>
            <a:ext cx="41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glenbrook.k12.il.us/GBSSCI/PHYS/MMEDIA/waves/tfl.gi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lectro-magnetic Waves vs. Mechanical Wave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ectro-magnet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s able to transmit energy through a vacu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oes not need a medi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Mechanic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n’t transmit energy through a vacuum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ed a mediu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ve Definition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y traveling disturbance that transfers energ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5448240" cy="31244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99360" y="6350040"/>
            <a:ext cx="692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1.moe.edu.sg/learn@/Quest/winners/secondary/raffles_girls_sch_nc/Folders/Frames/Images/wav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res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eak or high point of a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484200" y="356868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3276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9718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CR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rough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low point of a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84200" y="356868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343400" y="53341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71800" y="5562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quilibr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sting point of a wave, in other words there is no disturban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84200" y="356868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04920" y="4572000"/>
            <a:ext cx="75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257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QUILIBR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mplitu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int of maximum displacement from the equilib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measures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volume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a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84200" y="356868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495680"/>
            <a:ext cx="8305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971800" y="3505320"/>
            <a:ext cx="76320" cy="990360"/>
          </a:xfrm>
          <a:custGeom>
            <a:avLst/>
            <a:gdLst>
              <a:gd name="textAreaLeft" fmla="*/ 22320 w 76320"/>
              <a:gd name="textAreaRight" fmla="*/ 76320 w 76320"/>
              <a:gd name="textAreaTop" fmla="*/ 41040 h 990360"/>
              <a:gd name="textAreaBottom" fmla="*/ 94932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3809880"/>
            <a:ext cx="7617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429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velength (</a:t>
            </a:r>
            <a:r>
              <a:rPr b="0" lang="el-GR" sz="3800" spc="-1" strike="noStrike">
                <a:solidFill>
                  <a:srgbClr val="000000"/>
                </a:solidFill>
                <a:latin typeface="Verdana"/>
              </a:rPr>
              <a:t>λ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763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tance or length of one full wave cycle (trough to trough of crest to crest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t should be the same distance for each wavelengt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3429000"/>
            <a:ext cx="8153280" cy="1674720"/>
          </a:xfrm>
          <a:custGeom>
            <a:avLst/>
            <a:gdLst/>
            <a:ahLst/>
            <a:rect l="l" t="t" r="r" b="b"/>
            <a:pathLst>
              <a:path w="5136" h="1055">
                <a:moveTo>
                  <a:pt x="0" y="889"/>
                </a:moveTo>
                <a:cubicBezTo>
                  <a:pt x="5" y="799"/>
                  <a:pt x="9" y="708"/>
                  <a:pt x="14" y="618"/>
                </a:cubicBezTo>
                <a:cubicBezTo>
                  <a:pt x="19" y="517"/>
                  <a:pt x="103" y="380"/>
                  <a:pt x="167" y="306"/>
                </a:cubicBezTo>
                <a:cubicBezTo>
                  <a:pt x="191" y="278"/>
                  <a:pt x="214" y="248"/>
                  <a:pt x="250" y="236"/>
                </a:cubicBezTo>
                <a:cubicBezTo>
                  <a:pt x="274" y="202"/>
                  <a:pt x="252" y="223"/>
                  <a:pt x="299" y="209"/>
                </a:cubicBezTo>
                <a:cubicBezTo>
                  <a:pt x="368" y="188"/>
                  <a:pt x="388" y="169"/>
                  <a:pt x="465" y="160"/>
                </a:cubicBezTo>
                <a:cubicBezTo>
                  <a:pt x="569" y="166"/>
                  <a:pt x="616" y="154"/>
                  <a:pt x="674" y="236"/>
                </a:cubicBezTo>
                <a:cubicBezTo>
                  <a:pt x="687" y="281"/>
                  <a:pt x="670" y="230"/>
                  <a:pt x="701" y="285"/>
                </a:cubicBezTo>
                <a:cubicBezTo>
                  <a:pt x="715" y="309"/>
                  <a:pt x="721" y="341"/>
                  <a:pt x="729" y="368"/>
                </a:cubicBezTo>
                <a:cubicBezTo>
                  <a:pt x="742" y="413"/>
                  <a:pt x="762" y="456"/>
                  <a:pt x="778" y="500"/>
                </a:cubicBezTo>
                <a:cubicBezTo>
                  <a:pt x="805" y="573"/>
                  <a:pt x="819" y="652"/>
                  <a:pt x="868" y="715"/>
                </a:cubicBezTo>
                <a:cubicBezTo>
                  <a:pt x="886" y="769"/>
                  <a:pt x="933" y="808"/>
                  <a:pt x="972" y="847"/>
                </a:cubicBezTo>
                <a:cubicBezTo>
                  <a:pt x="1013" y="888"/>
                  <a:pt x="1063" y="947"/>
                  <a:pt x="1118" y="965"/>
                </a:cubicBezTo>
                <a:cubicBezTo>
                  <a:pt x="1146" y="985"/>
                  <a:pt x="1167" y="993"/>
                  <a:pt x="1201" y="1000"/>
                </a:cubicBezTo>
                <a:cubicBezTo>
                  <a:pt x="1324" y="994"/>
                  <a:pt x="1370" y="1006"/>
                  <a:pt x="1444" y="917"/>
                </a:cubicBezTo>
                <a:cubicBezTo>
                  <a:pt x="1478" y="876"/>
                  <a:pt x="1489" y="832"/>
                  <a:pt x="1520" y="792"/>
                </a:cubicBezTo>
                <a:cubicBezTo>
                  <a:pt x="1536" y="771"/>
                  <a:pt x="1569" y="729"/>
                  <a:pt x="1569" y="729"/>
                </a:cubicBezTo>
                <a:cubicBezTo>
                  <a:pt x="1577" y="704"/>
                  <a:pt x="1593" y="684"/>
                  <a:pt x="1603" y="660"/>
                </a:cubicBezTo>
                <a:cubicBezTo>
                  <a:pt x="1633" y="590"/>
                  <a:pt x="1601" y="642"/>
                  <a:pt x="1631" y="597"/>
                </a:cubicBezTo>
                <a:cubicBezTo>
                  <a:pt x="1638" y="561"/>
                  <a:pt x="1655" y="535"/>
                  <a:pt x="1666" y="500"/>
                </a:cubicBezTo>
                <a:cubicBezTo>
                  <a:pt x="1681" y="451"/>
                  <a:pt x="1694" y="409"/>
                  <a:pt x="1714" y="361"/>
                </a:cubicBezTo>
                <a:cubicBezTo>
                  <a:pt x="1720" y="346"/>
                  <a:pt x="1721" y="328"/>
                  <a:pt x="1728" y="313"/>
                </a:cubicBezTo>
                <a:cubicBezTo>
                  <a:pt x="1755" y="260"/>
                  <a:pt x="1796" y="207"/>
                  <a:pt x="1832" y="160"/>
                </a:cubicBezTo>
                <a:cubicBezTo>
                  <a:pt x="1869" y="111"/>
                  <a:pt x="1914" y="65"/>
                  <a:pt x="1957" y="21"/>
                </a:cubicBezTo>
                <a:cubicBezTo>
                  <a:pt x="1970" y="7"/>
                  <a:pt x="1994" y="12"/>
                  <a:pt x="2013" y="7"/>
                </a:cubicBezTo>
                <a:cubicBezTo>
                  <a:pt x="2022" y="5"/>
                  <a:pt x="2041" y="0"/>
                  <a:pt x="2041" y="0"/>
                </a:cubicBezTo>
                <a:cubicBezTo>
                  <a:pt x="2094" y="2"/>
                  <a:pt x="2147" y="1"/>
                  <a:pt x="2200" y="7"/>
                </a:cubicBezTo>
                <a:cubicBezTo>
                  <a:pt x="2219" y="9"/>
                  <a:pt x="2242" y="34"/>
                  <a:pt x="2256" y="42"/>
                </a:cubicBezTo>
                <a:cubicBezTo>
                  <a:pt x="2317" y="76"/>
                  <a:pt x="2361" y="118"/>
                  <a:pt x="2415" y="160"/>
                </a:cubicBezTo>
                <a:cubicBezTo>
                  <a:pt x="2430" y="189"/>
                  <a:pt x="2451" y="207"/>
                  <a:pt x="2464" y="236"/>
                </a:cubicBezTo>
                <a:cubicBezTo>
                  <a:pt x="2473" y="255"/>
                  <a:pt x="2483" y="273"/>
                  <a:pt x="2492" y="292"/>
                </a:cubicBezTo>
                <a:cubicBezTo>
                  <a:pt x="2497" y="301"/>
                  <a:pt x="2506" y="320"/>
                  <a:pt x="2506" y="320"/>
                </a:cubicBezTo>
                <a:cubicBezTo>
                  <a:pt x="2526" y="416"/>
                  <a:pt x="2531" y="522"/>
                  <a:pt x="2575" y="611"/>
                </a:cubicBezTo>
                <a:cubicBezTo>
                  <a:pt x="2585" y="682"/>
                  <a:pt x="2627" y="744"/>
                  <a:pt x="2665" y="805"/>
                </a:cubicBezTo>
                <a:cubicBezTo>
                  <a:pt x="2679" y="862"/>
                  <a:pt x="2764" y="944"/>
                  <a:pt x="2811" y="979"/>
                </a:cubicBezTo>
                <a:cubicBezTo>
                  <a:pt x="2825" y="1021"/>
                  <a:pt x="2894" y="1045"/>
                  <a:pt x="2936" y="1055"/>
                </a:cubicBezTo>
                <a:cubicBezTo>
                  <a:pt x="2973" y="1053"/>
                  <a:pt x="3010" y="1053"/>
                  <a:pt x="3047" y="1048"/>
                </a:cubicBezTo>
                <a:cubicBezTo>
                  <a:pt x="3112" y="1039"/>
                  <a:pt x="3145" y="971"/>
                  <a:pt x="3186" y="930"/>
                </a:cubicBezTo>
                <a:cubicBezTo>
                  <a:pt x="3200" y="888"/>
                  <a:pt x="3216" y="845"/>
                  <a:pt x="3234" y="805"/>
                </a:cubicBezTo>
                <a:cubicBezTo>
                  <a:pt x="3242" y="788"/>
                  <a:pt x="3255" y="774"/>
                  <a:pt x="3262" y="757"/>
                </a:cubicBezTo>
                <a:cubicBezTo>
                  <a:pt x="3290" y="689"/>
                  <a:pt x="3302" y="617"/>
                  <a:pt x="3345" y="556"/>
                </a:cubicBezTo>
                <a:cubicBezTo>
                  <a:pt x="3362" y="504"/>
                  <a:pt x="3393" y="466"/>
                  <a:pt x="3415" y="417"/>
                </a:cubicBezTo>
                <a:cubicBezTo>
                  <a:pt x="3451" y="335"/>
                  <a:pt x="3410" y="405"/>
                  <a:pt x="3442" y="354"/>
                </a:cubicBezTo>
                <a:cubicBezTo>
                  <a:pt x="3459" y="287"/>
                  <a:pt x="3506" y="236"/>
                  <a:pt x="3547" y="181"/>
                </a:cubicBezTo>
                <a:cubicBezTo>
                  <a:pt x="3558" y="166"/>
                  <a:pt x="3579" y="162"/>
                  <a:pt x="3595" y="153"/>
                </a:cubicBezTo>
                <a:cubicBezTo>
                  <a:pt x="3647" y="123"/>
                  <a:pt x="3700" y="106"/>
                  <a:pt x="3755" y="84"/>
                </a:cubicBezTo>
                <a:cubicBezTo>
                  <a:pt x="3893" y="91"/>
                  <a:pt x="3866" y="84"/>
                  <a:pt x="3949" y="112"/>
                </a:cubicBezTo>
                <a:cubicBezTo>
                  <a:pt x="3973" y="129"/>
                  <a:pt x="3994" y="150"/>
                  <a:pt x="4018" y="167"/>
                </a:cubicBezTo>
                <a:cubicBezTo>
                  <a:pt x="4062" y="233"/>
                  <a:pt x="4107" y="288"/>
                  <a:pt x="4143" y="361"/>
                </a:cubicBezTo>
                <a:cubicBezTo>
                  <a:pt x="4154" y="383"/>
                  <a:pt x="4185" y="409"/>
                  <a:pt x="4199" y="431"/>
                </a:cubicBezTo>
                <a:cubicBezTo>
                  <a:pt x="4238" y="493"/>
                  <a:pt x="4264" y="565"/>
                  <a:pt x="4317" y="618"/>
                </a:cubicBezTo>
                <a:cubicBezTo>
                  <a:pt x="4333" y="658"/>
                  <a:pt x="4354" y="694"/>
                  <a:pt x="4379" y="729"/>
                </a:cubicBezTo>
                <a:cubicBezTo>
                  <a:pt x="4394" y="774"/>
                  <a:pt x="4374" y="725"/>
                  <a:pt x="4407" y="771"/>
                </a:cubicBezTo>
                <a:cubicBezTo>
                  <a:pt x="4437" y="813"/>
                  <a:pt x="4405" y="785"/>
                  <a:pt x="4435" y="819"/>
                </a:cubicBezTo>
                <a:cubicBezTo>
                  <a:pt x="4481" y="871"/>
                  <a:pt x="4531" y="919"/>
                  <a:pt x="4594" y="951"/>
                </a:cubicBezTo>
                <a:cubicBezTo>
                  <a:pt x="4728" y="947"/>
                  <a:pt x="4800" y="946"/>
                  <a:pt x="4914" y="923"/>
                </a:cubicBezTo>
                <a:cubicBezTo>
                  <a:pt x="4926" y="917"/>
                  <a:pt x="4952" y="906"/>
                  <a:pt x="4962" y="896"/>
                </a:cubicBezTo>
                <a:cubicBezTo>
                  <a:pt x="4985" y="873"/>
                  <a:pt x="4965" y="875"/>
                  <a:pt x="4997" y="861"/>
                </a:cubicBezTo>
                <a:cubicBezTo>
                  <a:pt x="5030" y="847"/>
                  <a:pt x="5073" y="831"/>
                  <a:pt x="5108" y="819"/>
                </a:cubicBezTo>
                <a:cubicBezTo>
                  <a:pt x="5126" y="794"/>
                  <a:pt x="5116" y="805"/>
                  <a:pt x="5136" y="78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3733560" y="3961800"/>
            <a:ext cx="304920" cy="2743200"/>
          </a:xfrm>
          <a:custGeom>
            <a:avLst/>
            <a:gdLst>
              <a:gd name="textAreaLeft" fmla="*/ 89640 w 304920"/>
              <a:gd name="textAreaRight" fmla="*/ 305280 w 304920"/>
              <a:gd name="textAreaTop" fmla="*/ 114120 h 2743200"/>
              <a:gd name="textAreaBottom" fmla="*/ 26290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5400000">
            <a:off x="5028840" y="1752480"/>
            <a:ext cx="304920" cy="2743200"/>
          </a:xfrm>
          <a:custGeom>
            <a:avLst/>
            <a:gdLst>
              <a:gd name="textAreaLeft" fmla="*/ 89640 w 304920"/>
              <a:gd name="textAreaRight" fmla="*/ 305280 w 304920"/>
              <a:gd name="textAreaTop" fmla="*/ 114120 h 2743200"/>
              <a:gd name="textAreaBottom" fmla="*/ 262908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5480" y="4952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14800" y="29718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AVE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486400" y="43434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ave Frequenc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ow often a full wave cycle occurs, or the amount of time it takes for one full wave cycle to occur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 is measured in Hertz (Hz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requency also measures th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Verdana"/>
              </a:rPr>
              <a:t>pitch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of a wav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391640" y="6613560"/>
            <a:ext cx="412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www.davidjarvis.ca/dave/gallery/lg/sine-wave-frequency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dium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12016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substance or “stuff” the wave travels through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r Examp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Wate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-A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are no mediums in space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s basically means NO SOUND!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ight CAN travel without a medium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724280" y="2300400"/>
            <a:ext cx="3429000" cy="2357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113000" y="6477120"/>
            <a:ext cx="450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http://odin.physastro.mnsu.edu/%7Eeskridge/astr101/Surface_waves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2:23:50Z</dcterms:created>
  <dc:creator>Lisa Faul</dc:creator>
  <dc:description/>
  <dc:language>en-US</dc:language>
  <cp:lastModifiedBy>Lisa Faul</cp:lastModifiedBy>
  <dcterms:modified xsi:type="dcterms:W3CDTF">2009-05-11T04:02:23Z</dcterms:modified>
  <cp:revision>9</cp:revision>
  <dc:subject/>
  <dc:title>Wave Basics</dc:title>
</cp:coreProperties>
</file>